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8C7-B828-436A-B215-CC597ED3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94B-D64B-4AA1-AB59-64F1CF95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026-70E5-45A3-9DFA-2E655F60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4C2-26E3-4539-956D-7E227117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9B02-EFED-41B8-85A6-33258D38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36FF-DCC1-4C99-95D8-D901FA6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F3F6-714A-4A4C-848D-9CBD52AB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F83B-926A-402C-96AD-19D25C73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8A75-A27E-46E3-A917-C84F53AC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B4F6-4471-4BC4-AFF0-C1BE6BD3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216F-6D9F-4668-823A-B51184DE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A51-65A6-41D4-A29D-0BD081D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F39E-07E4-4FF8-B3DC-4029A26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D4D9-E3DD-439B-9E30-5766E8D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E8FE-7C67-4877-86F6-3BA1A407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A14B-8C02-40B6-AA1B-65EF9B6B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08C3-E2E8-41B3-A597-9F7783AD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E2D-2313-44E1-AE4C-C7EC24C1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8D1-A60A-40D5-9534-065FCB52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C6B-F39A-4B8A-8EDD-BB2AD85A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EC9-A8A0-468E-ADB9-8900E48C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43B-5C18-47A2-8052-1C0FDF00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F11-E55D-4764-BC7E-3E35E36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1F2-338A-4D0F-BCC9-0C01AA8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7E67-78A8-409A-81BE-1EF2AF975E1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B3D-F3D1-465F-8FE4-2763D1E69C6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Forte"/>
              </a:rPr>
              <a:t>Retail Desig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the result of the activity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End of the cla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Timeline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43000"/>
          <a:ext cx="6933960" cy="4200480"/>
        </p:xfrm>
        <a:graphic>
          <a:graphicData uri="http://schemas.openxmlformats.org/drawingml/2006/table">
            <a:tbl>
              <a:tblPr/>
              <a:tblGrid>
                <a:gridCol w="2496240"/>
                <a:gridCol w="2499480"/>
                <a:gridCol w="1938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Before project work begin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After project work is complet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ject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ek 1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Introduce the uni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esearch on importance of retailing, examples and retail life cycle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about the assignmen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ows picture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2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Long quiz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plan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Group the student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 the instruction and the grading system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3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ole playing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Evaluation about the pla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Discuss the steps on how the retailer succeed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Practice retai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3 days practice sel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4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manage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ar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1:23:31Z</dcterms:created>
  <dc:creator>WLC9</dc:creator>
  <dc:description/>
  <dc:language>en-US</dc:language>
  <cp:lastModifiedBy>WLC9</cp:lastModifiedBy>
  <dcterms:modified xsi:type="dcterms:W3CDTF">2010-02-19T00:54:35Z</dcterms:modified>
  <cp:revision>12</cp:revision>
  <dc:subject/>
  <dc:title>Retail Design</dc:title>
</cp:coreProperties>
</file>