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115-51A0-4F4F-AD51-E621AE50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DEC-5D6F-41A3-89D3-2B960A23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422-59A6-4802-ACC0-EB85810F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1B4-E5A8-4F93-9D01-21BFD0C6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B7A9-4FAC-48FF-A3BA-29E5CFB8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4C9E-4BE2-4DBC-9709-FA25F9B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35B3-D45F-49A6-828F-EF15D9B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52F2-8D6F-4CAD-9E5E-B1FAEA30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AA47-3F4B-4E5F-81C7-15AC2B26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9E38-0E5F-4538-8715-53EE20D5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0B5E-238F-4FD7-A9BB-AF0CF30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904-530F-4654-B41B-998CAF2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1468-86B6-47D5-8531-9E92AE4A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7837-8326-4FB3-BABA-906F5DB8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0301-0027-49DE-B38F-983C0C63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D4BE-3A08-482C-8FA7-7E101B9B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3000-5D47-48F6-9832-4637C176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3F9-3567-4A7E-BD8B-AB122B36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120-804C-49BD-8839-33FDBF6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49E-9CE9-4449-B327-BAC33571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58B-795A-4882-B414-7BD8AA7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3D4-6FB8-40A3-9A35-0034D37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761-3BA3-40C8-AB34-25CFC2D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67F-8A48-4BE7-A7CB-33B9B879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4666-9B41-40FB-9A2A-ACBB2E85515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7ED0-6248-4232-93A3-736264CC176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7d47d"/>
                </a:solidFill>
                <a:latin typeface="Forte"/>
              </a:rPr>
              <a:t>Retail Design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the result of the activity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End of the cla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Timeline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143000"/>
          <a:ext cx="6933960" cy="4200480"/>
        </p:xfrm>
        <a:graphic>
          <a:graphicData uri="http://schemas.openxmlformats.org/drawingml/2006/table">
            <a:tbl>
              <a:tblPr/>
              <a:tblGrid>
                <a:gridCol w="2496240"/>
                <a:gridCol w="2499480"/>
                <a:gridCol w="1938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Before project work begin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After project work is complet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ject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ek 1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Introduce the uni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esearch on importance of retailing, examples and retail life cycle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about the assignmen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ows picture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2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Long quiz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plan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Group the student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 the instruction and the grading system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3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ole playing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Evaluation about the play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Discuss the steps on how the retailer succeed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Practice retai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3 days practice sel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4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manage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aring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1:23:31Z</dcterms:created>
  <dc:creator>WLC9</dc:creator>
  <dc:description/>
  <dc:language>en-US</dc:language>
  <cp:lastModifiedBy>WLC9</cp:lastModifiedBy>
  <dcterms:modified xsi:type="dcterms:W3CDTF">2010-02-19T00:54:35Z</dcterms:modified>
  <cp:revision>12</cp:revision>
  <dc:subject/>
  <dc:title>Retail Design</dc:title>
</cp:coreProperties>
</file>