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FD68-BEE6-4D83-BD54-D8C67104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D81-7B73-4428-BB71-C4432517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622-99C4-4EC3-AAFA-471A8F09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5E90-C034-4E49-8062-DA271A66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E1F7-9640-4B10-8441-489F94DC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3528-06F6-47C3-9DFB-0DB99415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34C3-13E2-4CAF-B4D2-6C60110A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41B8-01FB-40C5-A00F-29B150EC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73E6-DF4A-4302-8D3B-3CDF93A1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93DC-FC62-4E53-B3F6-FF62933E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B0F8-70DF-441C-825D-1CB26BA7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281F-CF41-4EB1-BC2C-A1724C02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5471-B130-49B3-92FC-CEAE93E4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A9BB-0703-438D-A1D0-3950E173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242A-32C6-4F6B-98CA-E85E2C4F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B533-392D-417E-B383-DD0DDE02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B0FB-D2F9-459F-9225-821A34FA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78B-B139-4A33-87F8-121C508A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69DD-085E-40E4-A614-307FD712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F27-3C68-4764-BF60-E8FDC7A5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A586-53D6-4B03-BCA7-F10FDCA9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3B1A-93E1-4C1A-8CBA-6B7F513B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E0C-437A-4D71-A97D-A0495CA2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C76F-8858-41CB-8F60-10DAA7FF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716F-70B7-46D6-A4CC-1BADFA64553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0A2D-3CA3-45AE-8371-C911CF6AEE5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7d47d"/>
                </a:solidFill>
                <a:latin typeface="Forte"/>
              </a:rPr>
              <a:t>Retail Design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ion on the result of the activity.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End of the clas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9af7d"/>
                </a:solidFill>
                <a:latin typeface="Arial"/>
              </a:rPr>
              <a:t>Timeline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143000"/>
          <a:ext cx="6933960" cy="4200480"/>
        </p:xfrm>
        <a:graphic>
          <a:graphicData uri="http://schemas.openxmlformats.org/drawingml/2006/table">
            <a:tbl>
              <a:tblPr/>
              <a:tblGrid>
                <a:gridCol w="2496240"/>
                <a:gridCol w="2499480"/>
                <a:gridCol w="19382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0b854"/>
                          </a:solidFill>
                          <a:latin typeface="Arial"/>
                        </a:rPr>
                        <a:t>Before project work begin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0b854"/>
                          </a:solidFill>
                          <a:latin typeface="Arial"/>
                        </a:rPr>
                        <a:t>Students work on projects and complete task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0b854"/>
                          </a:solidFill>
                          <a:latin typeface="Arial"/>
                        </a:rPr>
                        <a:t>After project work is completed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hink-pair-shar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hink-pair-shar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bservation of group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roject checkli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bservation of group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rogress checkli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formance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rogress checkli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Video and photo journal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Video and photo journal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formance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formance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eek 1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ay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Introduce the unit.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Research on importance of retailing, examples and retail life cycle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ion about the assignment.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Shows picture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Week 2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Long quiz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ion on how to plan retailing busines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Group the student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 the instruction and the grading system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Week 3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Role playing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Verdana"/>
              </a:rPr>
              <a:t>Evaluation about the play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Verdana"/>
              </a:rPr>
              <a:t>Discuss the steps on how the retailer succeed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Verdana"/>
              </a:rPr>
              <a:t>Practice retailing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Verdana"/>
              </a:rPr>
              <a:t>3 days practice selling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Week 4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ion on how to manage retailing busines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Sharing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1:23:31Z</dcterms:created>
  <dc:creator>WLC9</dc:creator>
  <dc:description/>
  <dc:language>en-US</dc:language>
  <cp:lastModifiedBy>WLC9</cp:lastModifiedBy>
  <dcterms:modified xsi:type="dcterms:W3CDTF">2010-02-19T00:54:35Z</dcterms:modified>
  <cp:revision>12</cp:revision>
  <dc:subject/>
  <dc:title>Retail Design</dc:title>
</cp:coreProperties>
</file>