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9652-D287-45B5-AB29-65A76C41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8FAF-430A-4807-84AE-51008A97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014D-725C-4157-A6AA-A72249AB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AE88-6F98-4976-B28D-2FBE9BDCA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E1D3-8ABE-49CC-A4D4-57E6748F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F142-2D04-4197-89EB-0CC3F819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6094-9FD6-4E64-B59E-4B5ABDFD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F7C6-BBE1-4872-8721-156C8C64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DB70-CD9F-4A4A-92D9-27FC86C2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8686-B7CF-4CF9-862F-F1AABE69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2FCB-23CB-4F66-9722-24C95F33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43C2-EFD6-4EC6-A173-7560A644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8C4D-D6D1-4D48-B837-5AEC6ED6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6708-88DC-4329-9991-07CF8667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8412-BB82-47BD-BEFB-4E7D6F18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DDA6-5971-431B-BAA9-7DF29220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E864-A075-4B13-A8E5-B9B3A9C6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22B8-D510-4FC2-823A-BD1580E4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AFAE-5720-45B9-A766-C88AF183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F1A4-B2E1-43A3-B717-FE411778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7EB0-54EA-4D05-BFC4-7AA36FFD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905D-9956-4B26-AD1E-4C995F39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E021-3647-4A03-9D1E-05E21684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8EEE-BEA7-4070-8D7C-C2AD86EE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2BEA-2D2B-4CFC-9832-6067ECC5C10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77B0-0F4F-444D-A83C-88AF2B6F8FA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7d47d"/>
                </a:solidFill>
                <a:latin typeface="Forte"/>
              </a:rPr>
              <a:t>Retail Design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Discussion on the result of the activity.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End of the class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9af7d"/>
                </a:solidFill>
                <a:latin typeface="Arial"/>
              </a:rPr>
              <a:t>Timeline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143000"/>
          <a:ext cx="6933960" cy="4200480"/>
        </p:xfrm>
        <a:graphic>
          <a:graphicData uri="http://schemas.openxmlformats.org/drawingml/2006/table">
            <a:tbl>
              <a:tblPr/>
              <a:tblGrid>
                <a:gridCol w="2496240"/>
                <a:gridCol w="2499480"/>
                <a:gridCol w="19382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0b854"/>
                          </a:solidFill>
                          <a:latin typeface="Arial"/>
                        </a:rPr>
                        <a:t>Before project work begin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0b854"/>
                          </a:solidFill>
                          <a:latin typeface="Arial"/>
                        </a:rPr>
                        <a:t>Students work on projects and complete task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0b854"/>
                          </a:solidFill>
                          <a:latin typeface="Arial"/>
                        </a:rPr>
                        <a:t>After project work is completed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hink-pair-shar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hink-pair-shar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bservation of group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roject checklist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Observation of group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rogress checklist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formance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rogress checklist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Video and photo journal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Video and photo journal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formance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erformances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eek 1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ay 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Introduce the unit.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Research on importance of retailing, examples and retail life cycle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Discussion about the assignment.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Shows pictures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Week 2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Long quiz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Discussion on how to plan retailing business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Group the students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Discuss the instruction and the grading system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Week 3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Role playing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Verdana"/>
              </a:rPr>
              <a:t>Evaluation about the play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Verdana"/>
              </a:rPr>
              <a:t>Discuss the steps on how the retailer succeed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Verdana"/>
              </a:rPr>
              <a:t>Practice retailing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Verdana"/>
              </a:rPr>
              <a:t>3 days practice selling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Week 4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Day 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Discussion on how to manage retailing business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Verdana"/>
              </a:rPr>
              <a:t>Sharing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1:23:31Z</dcterms:created>
  <dc:creator>WLC9</dc:creator>
  <dc:description/>
  <dc:language>en-US</dc:language>
  <cp:lastModifiedBy>WLC9</cp:lastModifiedBy>
  <dcterms:modified xsi:type="dcterms:W3CDTF">2010-02-19T00:54:35Z</dcterms:modified>
  <cp:revision>12</cp:revision>
  <dc:subject/>
  <dc:title>Retail Design</dc:title>
</cp:coreProperties>
</file>